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192-8435-41BB-989C-52DF3F7B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6DC-1409-411E-BB23-15E6F71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0D8-6EDE-4D8A-9FFF-A1E0400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077-E493-426F-A40F-80F5014D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1B5-A6EB-48CC-939A-C0FD01B6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A91-9BCA-4C91-B317-A69726D9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8EA-74A6-4639-8917-4616A765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E63-75F6-4836-A8B8-4FED5D64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F14-8233-4F7A-8E6B-0D8CD1DE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9D0-C7B2-4939-952A-7AAB66D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423-7618-41E6-9D98-5F62CF4D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0D7-9068-4191-8AC3-612A0B5C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3689-8C93-45A5-8937-5278FF9D7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41340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a0015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66ff"/>
                </a:solidFill>
                <a:latin typeface="Arial"/>
                <a:ea typeface="Arial"/>
              </a:rPr>
              <a:t>¡</a:t>
            </a:r>
            <a:r>
              <a:rPr b="1" lang="en-US" sz="7200" spc="-1" strike="noStrike">
                <a:solidFill>
                  <a:srgbClr val="6666ff"/>
                </a:solidFill>
                <a:latin typeface="Arial"/>
              </a:rPr>
              <a:t>DA GRACIA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48720" y="380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12400" y="1898640"/>
            <a:ext cx="151272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lmo 35: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57200"/>
            <a:ext cx="7696080" cy="7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a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  <a:ea typeface="Arial"/>
              </a:rPr>
              <a:t>«Y mi lengua hab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  <a:ea typeface="Arial"/>
              </a:rPr>
              <a:t> de Su justicia y de Su alabanza todo el día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12193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- El Rey 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7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09480" y="758880"/>
            <a:ext cx="8001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a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ffffff"/>
                </a:solidFill>
                <a:latin typeface="Arial"/>
                <a:ea typeface="Arial"/>
              </a:rPr>
              <a:t>«Estad siempre gozosos. Orad sin cesar. Dad GRACIAS en todo, porque esta es la voluntad de Dios para con vosotros en Cristo Jesús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09240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1 Tesalonicenses 5:16-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5638680"/>
            <a:ext cx="868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a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3ebf1"/>
                </a:solidFill>
                <a:latin typeface="Arial"/>
              </a:rPr>
              <a:t>MÚSICA: </a:t>
            </a:r>
            <a:r>
              <a:rPr b="0" i="1" lang="es-CO" sz="1800" spc="-1" strike="noStrike">
                <a:solidFill>
                  <a:srgbClr val="e3ebf1"/>
                </a:solidFill>
                <a:latin typeface="Arial"/>
              </a:rPr>
              <a:t>“Al cantarle a É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4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9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sta mañana despertaste con salu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más dichoso que millones de personas que morirán esta seman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sabes lo que es el peligro de la batalla, la soledad de la cárcel o el dolor de morirse de hambre, llevas ventaja sobre más de 900 millones de person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tienes comida en el refrigerador, ropa que ponerte, un techo y una cama, eres más rico que el 75% de los habitantes del planet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tienes dinero en el banco y en la billetera, y te devuelven unas monedas al pagar, te cuentas entre el 8% de los pudient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54860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lees este texto, eres más dichoso que más de dos mil millones de personas que no saben le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vas con la cara bien alta, sonríes y estás verdaderamente agradecido, eres más dichoso que la mayoría, puesto que la mayoría podría hacerlo, pero no lo h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828800" y="685800"/>
            <a:ext cx="5638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itud es lo que sentimos cuando nos hacen un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 las gracias es el impulso natural de exteriorizar e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iento. </a:t>
            </a:r>
            <a:br>
              <a:rPr sz="32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Henry Van Dyke (1852-193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1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PENSAMIENTOS SOBRE LA ALAB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757080"/>
            <a:ext cx="8686800" cy="606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a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La felicidad empieza cuando uno deja de lamentarse por los problemas que tiene y agradece por los problemas que no tie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Si quieres sentirte satisfecho ponte a pensar ahora mismo en lo feliz que s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as si perdieras todo lo que tienes, 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y luego lo recuperara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Me quejaba porque no te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a zapatos, hasta que conocí a un hombre que no te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a pies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El Cielo es un estado de gratitud por haber recibido lo que uno no merecía, y por no haber recibido lo que uno 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 se merecí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Si los Cristianos alabasen m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s a Dios el mundo dudaría menos de É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La vida de un cristiano es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 pendiente de las bendiciones que recibe y de las que espera recibir. Por eso, debería dar gracias siemp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Si pudiéramos olvidar nuestros problemas con la misma facilidad que olvidamos nuestras bendiciones, qu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 distintas s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an las co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ffffff"/>
                </a:solidFill>
                <a:latin typeface="Arial"/>
              </a:rPr>
              <a:t>La mejor evidencia de que clase de personas somos es nuestra capacidad de expresar gratitu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9:57:39Z</dcterms:created>
  <dc:creator>Martha</dc:creator>
  <dc:description/>
  <dc:language>en-US</dc:language>
  <cp:lastModifiedBy>ldm</cp:lastModifiedBy>
  <dcterms:modified xsi:type="dcterms:W3CDTF">2007-04-20T16:27:20Z</dcterms:modified>
  <cp:revision>30</cp:revision>
  <dc:subject/>
  <dc:title>BE THANKFUL</dc:title>
</cp:coreProperties>
</file>