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unchained%5B1%5D.wav" ContentType="audio/x-wav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A93-1475-48B1-AAC4-F632119C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84B-2913-4B2B-B875-36682CBE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3F-4A26-4662-B8F2-614C4EF6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F6E-5948-4C3C-ABE9-15AC6DBC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493-966B-44B7-AFFB-BE32F37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267-94D9-417A-8A37-F4B1CC4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B0D-8059-4669-A899-51B33907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14-9554-4540-804A-63F98312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AC5-4E19-4DC2-94B0-D252971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B77-BA8C-46AF-99B1-DA78D20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9A2-785B-4DE8-B17C-960DCC2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820-F058-4DDC-B660-78F2FDD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B3B7-7D35-4ED2-B2F3-608991E0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nchained%5B1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52308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Square721 BT"/>
              </a:rPr>
              <a:t>Proverbio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371628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No te acerques a una cabra por delante, a un caballo por detrás, y a un tonto por ningún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(Proverbio judí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4941720"/>
            <a:ext cx="6265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Cuídate del perro que no ladra y del agua man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(Proverbio la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70828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a gente se arregla todos los días el cabello, ¿por qué no se arregla el corazón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Proverbio ch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148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Yo me quejaba porque no  tenía zapatos, hasta que conocí a un hombre que no tenía p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(Proverbio ára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08176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d9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d9d9"/>
                </a:solidFill>
                <a:latin typeface="Bookman Old Style"/>
              </a:rPr>
              <a:t>La primera vez que me engañes, la culpa será tuya. La segunda, la culpa será 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9d9"/>
                </a:solidFill>
                <a:latin typeface="Bookman Old Style"/>
              </a:rPr>
              <a:t>(Proverbio ára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3284640"/>
            <a:ext cx="691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Las palabras de oro van a menudo seguidas por actos de plom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(Proverbio holand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360" y="4938840"/>
            <a:ext cx="828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Si un problema tiene solución, no te preocupes.  Y si la tiene ¿Para qué has de preocuparte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(Proverbio ch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6200" y="3860640"/>
            <a:ext cx="669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99ffcc"/>
                </a:solidFill>
                <a:latin typeface="Bookman Old Style"/>
              </a:rPr>
              <a:t>Bebe y come con tu amigo, pero no trates con él de negoci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Bookman Old Style"/>
              </a:rPr>
              <a:t>(Proverbio anónim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2120"/>
            <a:ext cx="691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s palabras se las lleva el viento, lo escrito permanece siemp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(Proverbio la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15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on dinero en el bolsillo, se es atractivo, inteligente, y hasta se canta bi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(Proverbio judí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5154480"/>
            <a:ext cx="540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A fuerza de ir todo mal, comienza todo a ir bi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(Proverbio franc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5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Todo es relativo en la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El clavel es mucho más bello que un repol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pero prueba hacer una sopa con un clav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(Proverbio de pu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89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ff86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dff86"/>
                </a:solidFill>
                <a:latin typeface="Bookman Old Style"/>
              </a:rPr>
              <a:t>Las lágrimas derramadas son amarg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ff86"/>
                </a:solidFill>
                <a:latin typeface="Bookman Old Style"/>
              </a:rPr>
              <a:t>pero más amargas son las que no se derram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ff86"/>
                </a:solidFill>
                <a:latin typeface="Bookman Old Style"/>
              </a:rPr>
              <a:t>(Proverbio irland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81280" y="260280"/>
            <a:ext cx="581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“</a:t>
            </a: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Bueno es tener amig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aunque sea en el infier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man Old Style"/>
              </a:rPr>
              <a:t>(Proverbio españ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259200"/>
            <a:ext cx="66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Una vez terminado el juego, el rey y el peón vuelven a la misma caj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(Proverbio itali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1594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No comas todo lo que puedes,                        no gastes todo lo que tienes,                              no creas todo lo que oigas,                              no digas todo lo que sab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( Proverbio chin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62064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ff"/>
                </a:solidFill>
                <a:uFillTx/>
                <a:latin typeface="Square721 BT"/>
              </a:rPr>
              <a:t>DEFINICIÓN DE PROVERB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Square721 BT"/>
              </a:rPr>
              <a:t>Sentencia breve con sabiduría mor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907920"/>
            <a:ext cx="7416720" cy="284940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odos los proverbios llevan siempre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Llena tu vida de  proverbios b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260280"/>
            <a:ext cx="6049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ff99"/>
                </a:solidFill>
                <a:latin typeface="Bookman Old Style"/>
              </a:rPr>
              <a:t>Adán comió la manzana, y todavía nos duelen las muel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Bookman Old Style"/>
              </a:rPr>
              <a:t>(Proverbio húnga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549360"/>
            <a:ext cx="633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ccecff"/>
                </a:solidFill>
                <a:latin typeface="Bookman Old Style"/>
              </a:rPr>
              <a:t>Antes de cambiar el mundo,   da tres vueltas por tu ca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ookman Old Style"/>
              </a:rPr>
              <a:t>(Proverbio ch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0200" y="5226120"/>
            <a:ext cx="712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99"/>
                </a:solidFill>
                <a:latin typeface="Bookman Old Style"/>
              </a:rPr>
              <a:t>Antes de juzgar a una persona, camina tres lunas en sus zapat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Bookman Old Style"/>
              </a:rPr>
              <a:t>(Proverbio hind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33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Aquel que pregunta, es un tonto por cinco minutos, pero el que no pregunta,                   es un tonto para siemp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man Old Style"/>
              </a:rPr>
              <a:t>(Proverbio ch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189000"/>
            <a:ext cx="6337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Cuando apuntas con un dedo, recuerda que los otros tres dedos te apuntan a 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Bookman Old Style"/>
              </a:rPr>
              <a:t>(Proverbio ingl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260280"/>
            <a:ext cx="755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ame un pez y cenaré esta noche, enséñame a pescar y cenaré siemp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(Proverbio ch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8000" y="257040"/>
            <a:ext cx="90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El hombre es más duro que el hierro, más fuerte que la piedra, y más frágil que una ro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(Proverbio chin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2:14Z</dcterms:created>
  <dc:creator>parlott@</dc:creator>
  <dc:description/>
  <dc:language>en-US</dc:language>
  <cp:lastModifiedBy>ROB</cp:lastModifiedBy>
  <dcterms:modified xsi:type="dcterms:W3CDTF">2008-05-02T03:34:23Z</dcterms:modified>
  <cp:revision>11</cp:revision>
  <dc:subject/>
  <dc:title>el planeta de los proverbios</dc:title>
</cp:coreProperties>
</file>