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Vangelis(Hymne)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8AAF-59E5-4F44-B32F-1ED0119E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0DB5-1262-4541-AD87-9BAAA76E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D63E-B766-4B8F-978F-44BFA3CA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A1A5-4E53-47B5-9685-09BE725A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4256-DF01-4FD3-B473-68659636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3F84-6E7E-4D29-80D0-260063EC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2031-EEF2-45DC-BB73-E0C15565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E15C-9329-4264-B053-DB3DEA3A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BF18-E7A9-4929-A5B1-B62AF8CE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31EF-77E0-437F-9F04-02976051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132D-0CC4-4BB6-ADF2-E6D05D20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306-979E-4A4D-BAFB-F806B36B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629040"/>
            <a:ext cx="91440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imes New Roman"/>
              </a:rPr>
              <a:t>Ria Sl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83F5-5515-4FF4-BB67-D75F6A39B36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angelis(Hymne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95640" y="1295280"/>
            <a:ext cx="51483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Señor morado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Le informamos                           que el contrato de alquiler que firmamos hace billones de años, está venciendo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372360" y="6400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8 -  Hablando de basura, ¡qué suciedad, e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828800"/>
            <a:ext cx="91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Encontré objetos extraños por el camino.                                     Telgopor, neumáticos, plástico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72360" y="6400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3333" r="0" b="3333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63400" y="262080"/>
            <a:ext cx="8153640" cy="8254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Bueno, es hora de que conversemos.                               Necesito saber si ud todavía quiere vivir aqu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181480"/>
            <a:ext cx="6781680" cy="825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Me gustaría que estuviera siempre conmigo, pero todo tiene un lími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1981080"/>
            <a:ext cx="4272120" cy="1557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Caso afirmativo,                                      ¿qué puede Ud.  hacer para       cumplir el contra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72360" y="6400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48320" y="380880"/>
            <a:ext cx="403848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¿Ud puede cambia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9132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Aguardo respuestas y actitudes.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72360" y="6400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486400" y="2649600"/>
            <a:ext cx="3216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2b2b2"/>
                </a:solidFill>
                <a:latin typeface="Arial"/>
              </a:rPr>
              <a:t>CORDIALM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2b2b2"/>
                </a:solidFill>
                <a:latin typeface="Arial"/>
              </a:rPr>
              <a:t>Su cas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3860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b2b2b2"/>
                </a:solidFill>
                <a:latin typeface="Arial"/>
              </a:rPr>
              <a:t>La Tierr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259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Precisamos renovarlo, pero tenemos que revisar                           algunos puntos fundament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4073" r="35559" b="11480"/>
          <a:stretch/>
        </p:blipFill>
        <p:spPr>
          <a:xfrm>
            <a:off x="1905120" y="0"/>
            <a:ext cx="5333760" cy="5241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372360" y="6400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6945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2637000"/>
            <a:ext cx="9144000" cy="157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1 - Ud necesita pagar la cuenta de energía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¡Está muy alta!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941720"/>
            <a:ext cx="807696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¿Cómo gasta tan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6400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114800"/>
            <a:ext cx="91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2 - Antes yo le daba agua en abundancia,                                            hoy no dispongo más de esta cantidad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257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Precisamos renegociar el u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72360" y="6400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bright="-14000"/>
          </a:blip>
          <a:srcRect l="0" t="14698" r="0" b="0"/>
          <a:stretch/>
        </p:blipFill>
        <p:spPr>
          <a:xfrm>
            <a:off x="0" y="1440"/>
            <a:ext cx="9144000" cy="6627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600200"/>
            <a:ext cx="9144000" cy="1617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2b2b2"/>
                </a:solidFill>
                <a:latin typeface="Arial"/>
              </a:rPr>
              <a:t>3 - ¿</a:t>
            </a: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Por qué algunos en casa comen lo suficiente                                     y otros están muriendo de hambre,                                                          si el campo es tan gra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373720"/>
            <a:ext cx="9144000" cy="825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¡Si cuida bien de la tierra                                                                            va a tener alimento para todos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72360" y="6400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3500280"/>
            <a:ext cx="9144000" cy="13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4 - Ud cortó los árboles que dan sombra, aire y equilibrio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El sol está muy caliente y el calor aument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63868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¡Ud. debe replantar nuevamente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72360" y="6400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0880" y="380880"/>
            <a:ext cx="5486400" cy="11912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5 - Todos los bichos y las plantas del inmenso jardín deben ser cuidados y preserv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562720"/>
            <a:ext cx="9144000" cy="8254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Busqué algunos animales, y no los encontré.                                        Sé que cuando alquilé la casa ellos existian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6400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3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4114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6 - No ví los peces que viven en los rios y lag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95288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¿Uds pescaron todos? ¿Dónde está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72360" y="6400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492360" y="1295280"/>
            <a:ext cx="56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7 - Necesitan verificar qué colores extraños hay en el cielo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30481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Arial"/>
              </a:rPr>
              <a:t>¡No veo el azul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72360" y="6400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12:07:07Z</dcterms:created>
  <dc:creator>Ria Ellwanger   riaellw@globo.com</dc:creator>
  <dc:description/>
  <dc:language>en-US</dc:language>
  <cp:lastModifiedBy>Luis de Moya</cp:lastModifiedBy>
  <dcterms:modified xsi:type="dcterms:W3CDTF">2007-08-24T11:00:50Z</dcterms:modified>
  <cp:revision>19</cp:revision>
  <dc:subject>Categoria: Slides Traduzidos - Espanhol</dc:subject>
  <dc:title>Carta al Inquilino</dc:title>
</cp:coreProperties>
</file>